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2E20-553D-4683-A0F0-E1DAD4BEE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657-9368-4A6B-921C-8C0EF1F6A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CF2-A35A-4677-8CA1-8D37EEB28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56B-7FD2-4597-882A-56458E15CB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E71-F583-4AA1-85C9-073DE4D346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C9FE-03A9-4EEB-B3F2-8FED0A461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D598-545E-4107-9C8C-CAFF000B1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5A7E-9183-4F64-B0EE-BC7D26CCE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98EFDD-9B47-4646-AAFA-84788858F9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1F6649-2056-4649-8C02-3AD67C162E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5865CC-F361-4143-8E6E-B01DEAA82C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B139-AC69-457C-A273-205496791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B1A0-CAEE-44FC-BB75-0F2DA39FE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BD5A-BC32-4527-A9D8-DDC120AE4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57A-59E5-470F-A4BF-7A441B31C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8F85-20D0-4FC2-8C05-76A87764B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311C-5A5E-4A5E-9824-38B3F9FD3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8C3-CB08-4776-B315-6BDA0C639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86E6-7FC7-42E0-B57F-4EE166CBC0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45EF-3FDA-452F-9D7E-D15CD3A065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AACA-1A87-4952-AF88-05230FD75B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F5AC-8269-4AAE-A291-7F5343D35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C360-FBF5-459C-BA43-148088B1BA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6C1B-5CF2-4E54-A446-F6F499E40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485-B2BF-41B0-8C2F-133A868655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368-45AA-4A0D-964F-41D1E06E07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8D58-BB1E-4BC0-B47C-EE7E5D53B7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9710-7402-4C91-8176-83953BDD7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5DAF-0D01-4BEA-8001-3DB32994F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96F-4E96-4968-B095-445353C4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F6A-5EB8-426C-886F-A9CCB6CB8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11D-A7F9-4EBF-AB18-AD1D1196D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CE96-BC8D-44B5-8027-97A3EF462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547F0-C873-4E37-8024-79F9ADBAE7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032-D2A2-4907-A4A6-AEC410CA6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EE772-7B57-4C31-9F27-F88CDD1101E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3E537-245C-47CF-8DDB-E62D0D6D95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45EAF-1E53-4433-AE21-500A5965A8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B6E1-9AAF-4B44-A217-D874C40536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D01-DF49-4AB3-B482-FAD8DC6CF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A8A6-90B8-48AA-BBA4-F4BC85C53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F22-8E31-4D82-A98C-F8F94AFFC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BB8-7122-43D7-AC44-6344A5405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41F0-459A-407E-8FF5-E01052BBC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73C-86CD-4EDE-8887-65A678558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1976-C19A-4996-9916-A84819533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8B5-2BB2-4EBE-BF78-B998705BB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5D53-6304-459B-95C4-9F0C09954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380-D8D8-4F70-BE53-23271176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270-1CCF-40D0-9910-18817666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6E8-FED6-4983-818E-9F4C07EB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CFB-B9E3-4484-A73E-E0D89F83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EC8-44D9-4632-A6DD-5202F23E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823B-BE02-4B8E-87BE-7007F106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956A-D2EA-4EF6-9026-2523B87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E26-8290-4EDF-A5F8-10EC3E9F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48D-8A49-4122-8EF4-BA952238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9F0A-5BEF-4B9C-883C-C132EA04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F346-B62F-49B5-932B-FB6E2897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17B-1433-4B4E-94F9-F6E089C1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076F-E8AC-406C-910A-D8F4B22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D15D-6E28-4BFF-B4B1-4B2625A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B853-0DA9-4156-9DF1-5E431A6B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90E-3295-4B1A-BA16-491076EA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34E5-F552-4926-A698-83C7249E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DB1E-866C-457C-BA51-92CA590D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A285-A2A9-4490-90FF-DB6FF889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5332-815C-44FC-B7EC-2243EA9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0D04-F507-4C8B-A0FB-F8D43628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96780-E49B-4A53-BFE3-36C988D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626-B103-424D-BF55-9182941C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EE2A-8405-4C35-9907-A14EDA5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2DBD-6B89-49EF-AFB6-D54E319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745F-B965-42E7-B1ED-4ED0409F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A5A7-E9F2-45B4-9423-79EA156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3C0E-762E-4BB4-BA80-6ED061E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68C4-05C9-4301-9882-D313920A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249F-215A-469C-82C7-3DDA12D8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AC81-A13E-4250-AC32-79822C09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C743-6791-4459-A0FB-FACAF55F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6D2A0-A612-4550-9950-7496464D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33D-5862-45BA-BF76-70C4247E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97AE-0C28-42C1-AEC7-6773E435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EA2DE-04EE-4A92-9989-85D4B3C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CE8F-CA1A-4A58-ADDA-65A9CE0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4322-401F-4213-8D8F-F204F269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6D2F7-1F4F-4CBC-8C1E-9EF1338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6FE8-0A6F-402D-A781-130E8D4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B366-4014-4532-A41A-34640946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F942-D222-43D5-AA51-06700C1E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76F8-6629-4E7A-A2F1-3F0F4352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BA9BC-A11B-43CB-9365-4C45319A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68F-03AE-48F9-8EFA-BBC584B8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3EA5C-CF8A-41AC-8D58-4501EED5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0BCAD-55F3-46E6-B776-E6AA9365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AE844-2957-4957-99BD-D9FCAE84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B1FF1-C3C7-403E-AC07-6B015E96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05B2-9967-487B-9863-D0B5D37B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EBD4B-342D-4C10-BDC8-64BDB64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A2CC3-829D-4C09-8FDD-6B3FE7E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FDB49-9BB3-45BC-B37A-104C04D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8EF34-6D3B-4922-8914-B8E91E00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EE36-138F-40BE-804C-DE176987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BB6-0370-47AC-9209-5DE5BA27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7D5D-4FD1-486F-B5C4-320AB8E0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F7E-DC4E-419A-B367-439BA20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A2B-B6B0-4A90-8A10-58D9191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60A-E43F-408C-B0C3-2EFCC6A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001-BEAA-451E-918A-590CBA52B50F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F589-B708-4392-B9F0-54F3249805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ECCA-9A0C-47C3-BE20-5D528C3BDFAD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E16-86F2-4A15-97B9-11A2C7BA8A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9E19-F156-4250-B73E-AD62D71B32CE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2CA-7071-400A-AD2A-71084D9691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D8D-5C10-4EC0-A41D-493DD77E8A03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1AD-C585-40D4-A544-3449665358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5017-510D-4315-871B-E18F7920B7DA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3A00-0343-4D7A-A9D6-26D2312D2C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hyperlink" Target="http://en.wikipedia.org/wiki/File:Flag_of_Romania.svg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Romania.svg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2FB-0D38-4323-B52B-FF62C82FF51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39440" y="1628640"/>
            <a:ext cx="7761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forma fiscal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1047600" y="36828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696464"/>
                </a:solidFill>
                <a:latin typeface="Calibri"/>
              </a:rPr>
              <a:t>Ministerul Finanțelor Pub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63640" y="494172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1400"/>
            </a:br>
            <a:r>
              <a:rPr b="1" lang="ro-RO" sz="1400" spc="-1" strike="noStrike">
                <a:solidFill>
                  <a:srgbClr val="696464"/>
                </a:solidFill>
                <a:latin typeface="Calibri"/>
              </a:rPr>
              <a:t>www.mfinante.ro</a:t>
            </a:r>
            <a:endParaRPr b="0" lang="en-US" sz="1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1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27080" y="142920"/>
            <a:ext cx="920520" cy="911160"/>
          </a:xfrm>
          <a:prstGeom prst="rect">
            <a:avLst/>
          </a:prstGeom>
          <a:ln w="0">
            <a:noFill/>
          </a:ln>
        </p:spPr>
      </p:pic>
      <p:sp>
        <p:nvSpPr>
          <p:cNvPr id="242" name="Subtitle 2"/>
          <p:cNvSpPr/>
          <p:nvPr/>
        </p:nvSpPr>
        <p:spPr>
          <a:xfrm>
            <a:off x="1474920" y="301140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M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ri 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 rezultate a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ptate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35D6-6D5A-47AE-9C20-F15500E025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6"/>
          <p:cNvSpPr/>
          <p:nvPr/>
        </p:nvSpPr>
        <p:spPr>
          <a:xfrm>
            <a:off x="1317600" y="234936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Contribuțiile sociale de s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22200" y="328464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 m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ăsură pentru locuri de muncă şi dezvoltar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8CC9-D63C-429F-87EA-526130CF474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50480" y="639720"/>
            <a:ext cx="742788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Contribuţii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 de asigurări 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sociale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de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 stat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1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74400" y="1328760"/>
            <a:ext cx="8497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uneri de m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odificări legisl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Arial"/>
              </a:rPr>
              <a:t>ntroducerea plafonului maxim de 5 salarii medii brute pentru baza lunară de calcul a CAS și CASS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de la 1 ianuarie 201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Eliminarea deducerii CASS de la calculul impozitului pe venit de la 1 ianuarie 201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Introducerea obligației de plată a CAS și CASS pentru toate persoanele fizice care realizează venituri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Majorarea sumei neimpozabile lunare avute în vedere la stabilirea impozitului pe venitul din pensii începând cu 1 ianuarie 201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ducerea con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tributiei de asigurări sociale la angajat de la 10,5% la 7,5% de la 1 ianuarie 2017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ducerea con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tributiei de asigurări sociale la angajator de la 15,8% la 13,5% de la 1 ianuarie 2017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7C09-4EE4-4356-844D-4D1C81E6FE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50480" y="639720"/>
            <a:ext cx="742788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Contribuţii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 de asigurări 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sociale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de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 stat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696464"/>
                </a:solidFill>
                <a:latin typeface="Calibri"/>
              </a:rPr>
              <a:t>2</a:t>
            </a: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Calibri"/>
              </a:rPr>
              <a:t>Argumente pentru introducerea modificărilor legislative</a:t>
            </a: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Existenţa unor presiuni fiscale asociate nivelului ridicat al contribuţiilor de asigurări sociale, suportate atât de angajat, cât şi de angajat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Sistemul românesc de impozitare a muncii acţionează ca un factor descurajator pentru ocuparea forţei de muncă şi pentru stimularea mediului de afac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ata participării pe piaţa muncii cu forme legale este scăzut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se estimează că aproape 1,1 mil. salariaţi sunt în economia ascunsă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DB9-76FB-405A-B116-B13378C06F7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42608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Contribuţii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de asigurări 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soci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d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stat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3)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98100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</a:rPr>
              <a:t>Efectele cumulate ale propunerilor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1490760"/>
          <a:ext cx="8229600" cy="5033880"/>
        </p:xfrm>
        <a:graphic>
          <a:graphicData uri="http://schemas.openxmlformats.org/drawingml/2006/table">
            <a:tbl>
              <a:tblPr/>
              <a:tblGrid>
                <a:gridCol w="2470320"/>
                <a:gridCol w="2808000"/>
                <a:gridCol w="2951280"/>
              </a:tblGrid>
              <a:tr h="4302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econ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en med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44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ul bugetar brut este d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 în anul 2016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r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ămân la dispoziția populaţiei şi a agenţilor econom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re venituri din TVA, contribuţii sociale, impozit pe salarii etc. în valoare d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ştere economică suplimentară de circa 0,5 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re de creştere a numărului locurilor de muncă cu circa 65 mii în anul 2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şi cu circa 8 mii în 2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rea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ziunii fis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443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 anul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Rectangle 8"/>
          <p:cNvSpPr/>
          <p:nvPr/>
        </p:nvSpPr>
        <p:spPr>
          <a:xfrm>
            <a:off x="1763640" y="4941720"/>
            <a:ext cx="2571840" cy="107172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2FBF-C232-46C8-9F3D-9BFECDA7AB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42608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Contribuţii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de asigurări 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soci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d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stat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4)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14280" y="1143000"/>
          <a:ext cx="6850080" cy="2612880"/>
        </p:xfrm>
        <a:graphic>
          <a:graphicData uri="http://schemas.openxmlformats.org/drawingml/2006/table">
            <a:tbl>
              <a:tblPr/>
              <a:tblGrid>
                <a:gridCol w="4405320"/>
                <a:gridCol w="1222560"/>
                <a:gridCol w="1222200"/>
              </a:tblGrid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bugetare suplimentare (mld.le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ve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 taxe şi impozite colectate ca urmare a efectului de multipli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venituri bugetare suplimen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TextBox 10"/>
          <p:cNvSpPr/>
          <p:nvPr/>
        </p:nvSpPr>
        <p:spPr>
          <a:xfrm>
            <a:off x="928800" y="5643720"/>
            <a:ext cx="35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*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Notă: Impact ca urmare a reducerii cotelor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14280" y="3786120"/>
          <a:ext cx="6850080" cy="1735200"/>
        </p:xfrm>
        <a:graphic>
          <a:graphicData uri="http://schemas.openxmlformats.org/drawingml/2006/table">
            <a:tbl>
              <a:tblPr/>
              <a:tblGrid>
                <a:gridCol w="4405320"/>
                <a:gridCol w="1222560"/>
                <a:gridCol w="1222200"/>
              </a:tblGrid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macroecono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5 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0 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ul populaţi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 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1 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uri de muncă (m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BC2-3793-4F75-866E-07AEE92091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616320" y="2349360"/>
            <a:ext cx="830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Impozitarea microîntreprinderil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56760" y="321300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O impozitare pentru locuri de muncă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F41E-DE27-4182-8621-17CAA6D772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49" name="Title 5"/>
          <p:cNvSpPr/>
          <p:nvPr/>
        </p:nvSpPr>
        <p:spPr>
          <a:xfrm>
            <a:off x="1035000" y="142920"/>
            <a:ext cx="8640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  <a:ea typeface="Arial"/>
              </a:rPr>
              <a:t> 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  <a:ea typeface="Arial"/>
              </a:rPr>
              <a:t>Impozitul pe veniturile microîntreprinderilor (1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496800" y="907920"/>
            <a:ext cx="822960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420840" indent="-420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  <a:ea typeface="Arial"/>
              </a:rPr>
              <a:t>Propuneri de modificări legislati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1. Stabilirea unei cote de impozitare diferenţiate, în funcţie de numărul de salariaţi,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după cum urmează: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buClr>
                <a:srgbClr val="5b9bd5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1% pentru microîntreprinderile care au peste 2 salariaţi, inclusiv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buClr>
                <a:srgbClr val="5b9bd5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3% pentru microîntreprinderile care au un salaria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buClr>
                <a:srgbClr val="5b9bd5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3% + 1530</a:t>
            </a:r>
            <a:r>
              <a:rPr b="0" lang="ro-RO" sz="1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)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 lei trimestrial, pentru microîntreprinderile care nu au salariaţi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buClr>
                <a:srgbClr val="5b9bd5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3%</a:t>
            </a:r>
            <a:r>
              <a:rPr b="0" lang="ro-RO" sz="17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**)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  <a:ea typeface="Arial"/>
              </a:rPr>
              <a:t> pentru microîntreprinderile care nu se încadrează în prevederile lit.a) sau lit.b), si care se află într-una din următoarele situații înscrise în registrul comerțului sau în registrul ţinut de instanţele judecătoresti competente, după caz: (i) dizolvare urmată de lichidare; (ii)  inactivitate temporară; (iii) nedesfăsurarea de activităţ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2. Modificarea prag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SimSun"/>
              </a:rPr>
              <a:t>75.000 euro, pentru încadrarea în categoria microîntreprinderilor în anul 201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SimSun"/>
              </a:rPr>
              <a:t>85.000 euro, pentru încadrarea în categoria microîntreprinderilor în anul 201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SimSun"/>
              </a:rPr>
              <a:t>100.000 euro, pentru încadrarea în categoria microîntreprinderilor începând cu anul 201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Arial"/>
              </a:rPr>
              <a:t>*) Această sumă a fost stabilită luând în considerare contribuţiile şi impozitul pe venit care ar fi fost plătite în condiţiile angajării unui salariat cu salariul de bază minim brut pe ţară, urmând a fi actualizată in functie de nivelul salariului minim brut pe țar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Arial"/>
              </a:rPr>
              <a:t>**) această măsura nu are impact asupra încasărilor bugeta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ED05-EDF0-4B63-85CD-3F2AFCC4E8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55" name="Title 5"/>
          <p:cNvSpPr/>
          <p:nvPr/>
        </p:nvSpPr>
        <p:spPr>
          <a:xfrm>
            <a:off x="1060560" y="142920"/>
            <a:ext cx="8640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  <a:ea typeface="Arial"/>
              </a:rPr>
              <a:t> 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  <a:ea typeface="Arial"/>
              </a:rPr>
              <a:t>Impozitul pe veniturile microîntreprinderilor (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565200" y="10540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icroîntreprinderile reprezintă 78,3% din totalul societăţilor comerciale active, realizând o cifră de afaceri de numai 2,4%, din totalul cifrei de afaceri realizate de societatile comerciale din Roma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Forţa de muncă angajată în microîntreprinderi reprezintă 14% din totalul salariaţilor din societăţile comerciale care depun bilanţuri conta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,2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% din microîntreprinderi inregistrau pierdere neta la 31.12.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icroîntreprinderile - aproape în totalitate cu capital autoht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vor fi mult mai interesate pentru corectitudine în afaceri şi reducerea economiei ascu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907920" y="728640"/>
            <a:ext cx="7991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Argumente pentru susţinerea microîntreprinderilo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954000" y="3416040"/>
            <a:ext cx="7840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Calibri"/>
              </a:rPr>
              <a:t>Rezultatele microîntreprinderilor din bilanţurile contabile – 2013</a:t>
            </a:r>
            <a:endParaRPr b="0" lang="en-US" sz="21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52320" y="3848040"/>
          <a:ext cx="8352000" cy="2681280"/>
        </p:xfrm>
        <a:graphic>
          <a:graphicData uri="http://schemas.openxmlformats.org/drawingml/2006/table">
            <a:tbl>
              <a:tblPr/>
              <a:tblGrid>
                <a:gridCol w="4216680"/>
                <a:gridCol w="1019160"/>
                <a:gridCol w="1073160"/>
                <a:gridCol w="946080"/>
                <a:gridCol w="1096920"/>
              </a:tblGrid>
              <a:tr h="579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 de 2 salariaţi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 salariat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ără salariaţi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5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fra de afaceri – mil. lei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06,6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. microîntreprinderi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8.583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365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. microîntreprinderi cu profit net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289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. microîntreprinderi cu pierdere netă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.303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. microîntreprinderi fără profit net şi fără pierdere net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991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Box 2"/>
          <p:cNvSpPr/>
          <p:nvPr/>
        </p:nvSpPr>
        <p:spPr>
          <a:xfrm>
            <a:off x="755640" y="6543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ursa: MFP - DG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9341-9F61-4F88-8469-4204454F67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20480" y="75204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39800" y="1230480"/>
            <a:ext cx="78595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  <a:ea typeface="Arial"/>
              </a:rPr>
              <a:t>Efectele măsurilor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25600" y="1639800"/>
          <a:ext cx="8229600" cy="5042160"/>
        </p:xfrm>
        <a:graphic>
          <a:graphicData uri="http://schemas.openxmlformats.org/drawingml/2006/table">
            <a:tbl>
              <a:tblPr/>
              <a:tblGrid>
                <a:gridCol w="2743200"/>
                <a:gridCol w="2384280"/>
                <a:gridCol w="31021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s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nefic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econom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rmen 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5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-a estimat că circa 80.000 de microîntreprinderi, care în 2013 nu înregistrau nici cifră de afaceri şi nici număr de salariaţi, vor rămâne inactive.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suplimentare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*: +316 mil. l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şterea numărului locurilor de muncă cu circa 101 m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şterea profitului/reducerea pierderilor pentru microîntreprinderile cu peste 2 salariaţ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șterea încasărilor la impozitul pe venit și contribuții sociale dacă o parte din aceste microîntreprinderi își vor schimba abordarea antreprenoriala și vor angaja unul sau doi angajați pentru a beneficia de impozitul de 1%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itle 5"/>
          <p:cNvSpPr/>
          <p:nvPr/>
        </p:nvSpPr>
        <p:spPr>
          <a:xfrm>
            <a:off x="900000" y="142920"/>
            <a:ext cx="8640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  <a:ea typeface="Arial"/>
              </a:rPr>
              <a:t> 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  <a:ea typeface="Arial"/>
              </a:rPr>
              <a:t>Impozitul pe veniturile microîntreprinderilor (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  <a:ea typeface="Arial"/>
              </a:rPr>
              <a:t>3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  <a:ea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"/>
          <p:cNvSpPr/>
          <p:nvPr/>
        </p:nvSpPr>
        <p:spPr>
          <a:xfrm>
            <a:off x="608040" y="6210360"/>
            <a:ext cx="33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 Trei trimestre de încas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723-E8BF-44B6-99B9-6D6241C55A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2078640" y="2349360"/>
            <a:ext cx="519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Impozit pe divide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1185840" y="321300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O măsură pentru o profitabilitate real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A4AF-EB4C-4BE5-BECB-A076E79D9A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0200" y="1125360"/>
            <a:ext cx="7832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Obiective genera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TVA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Contribuțiile sociale de sta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Impozitarea microîntreprinderil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Impozite pe dividend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Cota unic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Acciz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Taxa pe construcții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Impozite și taxe loca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-285840">
              <a:lnSpc>
                <a:spcPct val="15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fectul cumulat al propunerilo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858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258560" y="272520"/>
            <a:ext cx="7427880" cy="708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696464"/>
                </a:solidFill>
                <a:latin typeface="Calibri"/>
              </a:rPr>
              <a:t>Agendă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26F6-E1B4-4880-82E9-3EB81FB5638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395280" y="1125360"/>
            <a:ext cx="8229600" cy="49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Propunere de modificare legislativ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liminarea impozitului pe dividende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începând cu 1 ianuarie 20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gumente pentru eliminarea impozitului pe divid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liminarea dublei impuneri economice, la nivelul companiei si actiona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paniile listate la Bursa de valori București (BVB) ar deveni mai atractive, indicele BET ar reveni la valorile înregistrate înainte de criza financiară, putând chiar să atingă noi max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e va îmbunătăţi guvernanţa corporativă, acţionarii urmărind reflectarea reală a rezultatelor economice şi financi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paniile mari nu-si vor mai externaliza profitul, iar IMM-urile vor renunta la tendintele de comportament evazionist (diminuarea bazei de impozitare prin inregistrarea de cheltuieli fic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liminarea impozitului pe dividende va conduce la cresterea incasarilor din impozitul pe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tle 5"/>
          <p:cNvSpPr/>
          <p:nvPr/>
        </p:nvSpPr>
        <p:spPr>
          <a:xfrm>
            <a:off x="1198440" y="609480"/>
            <a:ext cx="7426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96464"/>
                </a:solidFill>
                <a:latin typeface="Calibri"/>
              </a:rPr>
              <a:t>Impozitul pe dividende (1)</a:t>
            </a:r>
            <a:br>
              <a:rPr sz="2400"/>
            </a:br>
            <a:r>
              <a:rPr b="1" lang="ro-RO" sz="2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5B12-DA88-4A9D-8EC2-8BB857795F9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96560" y="56304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ul pe dividende (2)</a:t>
            </a:r>
            <a:br>
              <a:rPr sz="2300"/>
            </a:b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25600" y="10540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696464"/>
                </a:solidFill>
                <a:latin typeface="Calibri"/>
              </a:rPr>
              <a:t>Efectele măsurilor legisl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14440" y="1641600"/>
          <a:ext cx="8229600" cy="4959360"/>
        </p:xfrm>
        <a:graphic>
          <a:graphicData uri="http://schemas.openxmlformats.org/drawingml/2006/table">
            <a:tbl>
              <a:tblPr/>
              <a:tblGrid>
                <a:gridCol w="2469960"/>
                <a:gridCol w="2305080"/>
                <a:gridCol w="345456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econom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en 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79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brut de 1,86 mld. lei , sume care rămân la dispoziția populaţiei şi a agenţilor economi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re venituri din TVA, contribuţii sociale, impozit pe salarii etc. în valoare de 1 mld. l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ulare a pieței de capital din Româ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ștere a interesului din partea investitorilor locali și străini pentru ofertele publice inițiale (IPO) ale companiilor de stat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ulare a mediului de afaceri datorată îmbunătățirii 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sei alternative de împrumut de pe piața de capi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6923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86 mld. l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 anul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8"/>
          <p:cNvSpPr/>
          <p:nvPr/>
        </p:nvSpPr>
        <p:spPr>
          <a:xfrm>
            <a:off x="1547640" y="5089680"/>
            <a:ext cx="2714760" cy="112860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431-42CD-4EFD-AA81-D07D825B85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2640" y="53604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ul pe dividende (3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457200" y="119700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914400" y="162864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696464"/>
                </a:solidFill>
                <a:latin typeface="Calibri"/>
              </a:rPr>
              <a:t>Efectele măsurilor legislative pe termen medi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539640" y="2637000"/>
          <a:ext cx="8217000" cy="2751120"/>
        </p:xfrm>
        <a:graphic>
          <a:graphicData uri="http://schemas.openxmlformats.org/drawingml/2006/table">
            <a:tbl>
              <a:tblPr/>
              <a:tblGrid>
                <a:gridCol w="3811680"/>
                <a:gridCol w="1476360"/>
                <a:gridCol w="1474920"/>
                <a:gridCol w="1454040"/>
              </a:tblGrid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ificări prop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ozit pe dividende datorat de persoane juridice Româ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ozit pe venituri din dividende datorat de persoanele fizice Româ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,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ozit pe veniturile din dividende obtinute din Romania de persoane nerezidente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25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05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,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02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Rectangle 9"/>
          <p:cNvSpPr/>
          <p:nvPr/>
        </p:nvSpPr>
        <p:spPr>
          <a:xfrm>
            <a:off x="766980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  <a:ea typeface="Calibri"/>
              </a:rPr>
              <a:t>mld.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600120" y="5729400"/>
            <a:ext cx="604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Calibri"/>
                <a:ea typeface="Calibri"/>
              </a:rPr>
              <a:t>* * Rezidente în UE și state cu care România are încheiate convenții de evitare a dublei impun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0"/>
          <p:cNvSpPr/>
          <p:nvPr/>
        </p:nvSpPr>
        <p:spPr>
          <a:xfrm>
            <a:off x="571680" y="5429160"/>
            <a:ext cx="31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D2B6-39F8-4449-A834-6C6BE4754D88}" type="slidenum"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468360" y="1557360"/>
          <a:ext cx="8072280" cy="1895400"/>
        </p:xfrm>
        <a:graphic>
          <a:graphicData uri="http://schemas.openxmlformats.org/drawingml/2006/table">
            <a:tbl>
              <a:tblPr/>
              <a:tblGrid>
                <a:gridCol w="4405320"/>
                <a:gridCol w="1222200"/>
                <a:gridCol w="1222560"/>
                <a:gridCol w="1222200"/>
              </a:tblGrid>
              <a:tr h="237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bugetare suplimentare (mld.le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ven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 taxe şi impozite colectate ca urmare a efectului de multipli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venituri bugetare supliment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Box 10"/>
          <p:cNvSpPr/>
          <p:nvPr/>
        </p:nvSpPr>
        <p:spPr>
          <a:xfrm>
            <a:off x="385920" y="5013360"/>
            <a:ext cx="31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68360" y="3822840"/>
          <a:ext cx="8072280" cy="1190520"/>
        </p:xfrm>
        <a:graphic>
          <a:graphicData uri="http://schemas.openxmlformats.org/drawingml/2006/table">
            <a:tbl>
              <a:tblPr/>
              <a:tblGrid>
                <a:gridCol w="4405320"/>
                <a:gridCol w="1222200"/>
                <a:gridCol w="1222560"/>
                <a:gridCol w="1222200"/>
              </a:tblGrid>
              <a:tr h="237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macroeconom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0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ul populaţ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0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0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uri de muncă (mi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240" y="447840"/>
            <a:ext cx="742644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ul pe dividende (4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D951-BA4F-47E4-B0BF-5999BB90B53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6"/>
          <p:cNvSpPr/>
          <p:nvPr/>
        </p:nvSpPr>
        <p:spPr>
          <a:xfrm>
            <a:off x="979560" y="2500200"/>
            <a:ext cx="7259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ta unic</a:t>
            </a:r>
            <a:r>
              <a:rPr b="1" lang="vi-VN" sz="40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urarea competitivităţii pe piaţa unică european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condiţiile adoptăr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onede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64AB-73FD-4761-9DF7-98600EC283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19040" y="852480"/>
            <a:ext cx="742824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Cota unic</a:t>
            </a:r>
            <a:r>
              <a:rPr b="1" lang="vi-VN" sz="2300" spc="-1" strike="noStrike">
                <a:solidFill>
                  <a:srgbClr val="696464"/>
                </a:solidFill>
                <a:latin typeface="Calibri"/>
              </a:rPr>
              <a:t>ă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1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7515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cotei de impozit pe profit de la 16%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prezent la 14%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ianuarie 2019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rea cotei de impozit pe venit de la 16%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prezent la 14%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ianuarie 201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Reducerea cotei 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mpozit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e veniturile obţinute din România de nerezidenţ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 la 16%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prezent la 14%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 ianuarie 201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457200" y="119700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puneri de m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dificări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532A-4CBC-4495-9BD2-A4B22B3566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19040" y="852480"/>
            <a:ext cx="742824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Cota unic</a:t>
            </a:r>
            <a:r>
              <a:rPr b="1" lang="vi-VN" sz="2300" spc="-1" strike="noStrike">
                <a:solidFill>
                  <a:srgbClr val="696464"/>
                </a:solidFill>
                <a:latin typeface="Calibri"/>
              </a:rPr>
              <a:t>ă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2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9680" y="1285920"/>
            <a:ext cx="827244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rgumente pentru susţinerea cotei uni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Modificare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rtamentu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diului de afaceri prin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algn="just">
              <a:lnSpc>
                <a:spcPct val="100000"/>
              </a:lnSpc>
              <a:spcBef>
                <a:spcPts val="374"/>
              </a:spcBef>
              <a:buClr>
                <a:srgbClr val="afd5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inderea bazei de impozitare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algn="just">
              <a:lnSpc>
                <a:spcPct val="100000"/>
              </a:lnSpc>
              <a:spcBef>
                <a:spcPts val="374"/>
              </a:spcBef>
              <a:buClr>
                <a:srgbClr val="afd5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şterea gradului de conformare voluntar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 plata obligaţiilor bugetare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algn="just">
              <a:lnSpc>
                <a:spcPct val="100000"/>
              </a:lnSpc>
              <a:spcBef>
                <a:spcPts val="374"/>
              </a:spcBef>
              <a:buClr>
                <a:srgbClr val="afd5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şterea recuper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arieratelor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xare fiscal</a:t>
            </a:r>
            <a:r>
              <a:rPr b="0" lang="vi-VN" sz="2200" spc="-1" strike="noStrike">
                <a:solidFill>
                  <a:srgbClr val="000000"/>
                </a:solidFill>
                <a:latin typeface="Calibri"/>
              </a:rPr>
              <a:t>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274680" algn="just">
              <a:lnSpc>
                <a:spcPct val="100000"/>
              </a:lnSpc>
              <a:spcBef>
                <a:spcPts val="374"/>
              </a:spcBef>
              <a:buClr>
                <a:srgbClr val="afd5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ul stimulativ al reducerii impozit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i directe asupra muncii şi capitalului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algn="just">
              <a:lnSpc>
                <a:spcPct val="100000"/>
              </a:lnSpc>
              <a:spcBef>
                <a:spcPts val="374"/>
              </a:spcBef>
              <a:buClr>
                <a:srgbClr val="afd5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erul de resurse de la buget c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 populaţie şi societ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ţi are un efect mul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plicato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 economie, generând venituri superioare la buget din alte impozite şi taxe (asigur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 sociale, TVA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274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768-E274-478A-8A5F-6BF5FC824F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31640" y="836640"/>
            <a:ext cx="742788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Cota unică (3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752400" y="1413000"/>
            <a:ext cx="7859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696464"/>
                </a:solidFill>
                <a:latin typeface="Calibri"/>
                <a:ea typeface="Arial"/>
              </a:rPr>
              <a:t>Efectele măsurilor legisla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1989000"/>
          <a:ext cx="8642160" cy="4119840"/>
        </p:xfrm>
        <a:graphic>
          <a:graphicData uri="http://schemas.openxmlformats.org/drawingml/2006/table">
            <a:tbl>
              <a:tblPr/>
              <a:tblGrid>
                <a:gridCol w="2376360"/>
                <a:gridCol w="2881440"/>
                <a:gridCol w="338436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stur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nefic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ntru econom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rmen 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73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mpact bugetar brut de 4,8 mld. Lei, sume care rămân l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dispozi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ţia firmelor 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uperare venituri din TVA, contribuţii sociale, impozit pe salarii etc în valoare de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,3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mld. le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reştere economică suplimentară de circ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 p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stimarea creşterii numărului de locuri de muncă cu circ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 mii persoa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se de finanţare suplimentare pentru mediul de afacer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terea suplimentara a investitiilor cu 1,1 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Text Box 27"/>
          <p:cNvSpPr/>
          <p:nvPr/>
        </p:nvSpPr>
        <p:spPr>
          <a:xfrm>
            <a:off x="1476360" y="4724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8"/>
          <p:cNvSpPr/>
          <p:nvPr/>
        </p:nvSpPr>
        <p:spPr>
          <a:xfrm>
            <a:off x="1187280" y="4724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mpact bugetar net de -2,5 mld. l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208160" y="4581360"/>
            <a:ext cx="2714400" cy="112896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28A-5027-41DF-A7E5-0E6AA6F003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3428280" y="234936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Acc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755640" y="3068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Un sistem mai simplu şi mai eficient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18A-FC03-454D-8A78-C3CED715E2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7"/>
          <p:cNvSpPr/>
          <p:nvPr/>
        </p:nvSpPr>
        <p:spPr>
          <a:xfrm>
            <a:off x="1547640" y="2133720"/>
            <a:ext cx="273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468360" y="148428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uneri de modific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ări 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Diminuarea nivelului accizelor la principalele produse energet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(motorin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benzina fără plumb ş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benzina cu plum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, astf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bcb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20% a accizei la motorina ( de la 1897,08 lei / 1000 litri la 1518,04 lei / 1000 litr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bcb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18,62% a accizei la benzina fara plumb ( de la 2035,40 lei / 1000 litri la 1656,36 lei / 1000 litr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bcb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16,28% a accizei la benzina cu plumb ( de la 2327,27 lei / 1000 litri la 1948,23 lei / 1000 li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9bcb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03440" y="476280"/>
            <a:ext cx="701496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Accize (</a:t>
            </a:r>
            <a:r>
              <a:rPr b="1" lang="en-US" sz="2900" spc="-1" strike="noStrike">
                <a:solidFill>
                  <a:srgbClr val="696464"/>
                </a:solidFill>
                <a:latin typeface="Arial"/>
              </a:rPr>
              <a:t>1</a:t>
            </a: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B29-A0C1-48F4-A8B3-F704993041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64320" cy="42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mbun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rea competitivit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ţ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i economiei romane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n perspectiva intr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i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n zona eu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ro in anul 2019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ealizarea unui climat de afaceri favorabil extinderii invest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ilor private, autohtone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 str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ne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R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ucerea evaziunii fiscale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 a economie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subteran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nt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irea autonomie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utoritatilor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ocale;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liminarea discrimin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ilor generate de sistemul fiscal actual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irea obliga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ilor de stat membru al Uniunii Europene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prin implementarea legislatiei europene si actualizarea acesteia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-239760">
              <a:lnSpc>
                <a:spcPct val="100000"/>
              </a:lnSpc>
              <a:spcBef>
                <a:spcPts val="1199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Reducerea fenomenului de evitare a platii impozitelor directe, prin neacordarea tratamentului favorabil prevazut de legislatia europeana sau de tratatele fiscale incheiate de Romania pentru evitarea dublei impuneri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9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258560" y="272520"/>
            <a:ext cx="7427880" cy="708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696464"/>
                </a:solidFill>
                <a:latin typeface="Calibri"/>
              </a:rPr>
              <a:t>Obiective generale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B7A-4618-4462-9569-C8F46A294D0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7"/>
          <p:cNvSpPr/>
          <p:nvPr/>
        </p:nvSpPr>
        <p:spPr>
          <a:xfrm>
            <a:off x="1547640" y="2133720"/>
            <a:ext cx="273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3"/>
          <p:cNvSpPr/>
          <p:nvPr/>
        </p:nvSpPr>
        <p:spPr>
          <a:xfrm>
            <a:off x="468360" y="1484280"/>
            <a:ext cx="813744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uneri de modific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ări 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Rea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ezarea nivelurilor accizelor pentru alcool și băuturile alcool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15,38% a accizelor pentru bere ( de la 3,9 lei / hl / 1 grad Plato la 3,3 lei / hl / 1grad Pl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70% a accizelor la vinuri spumoase ( de la 161,33 lei / hl produs la 47,38 lei / hl produs) si cu 77,7% pentru bauturi fermentate spumoase (de la 213,21 lei / hl produs la 47,38 lei / hl pro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caderea cu 30% a accizelor pentru alcool etilic (de la 4738,01 lei / hl alcool pur la 3306,98 lei / hl alcool p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01496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Accize (</a:t>
            </a:r>
            <a:r>
              <a:rPr b="1" lang="ro-RO" sz="2900" spc="-1" strike="noStrike">
                <a:solidFill>
                  <a:srgbClr val="696464"/>
                </a:solidFill>
                <a:latin typeface="Arial"/>
              </a:rPr>
              <a:t>2</a:t>
            </a: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F3E3-ED7C-4B50-A0AD-D645079124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7"/>
          <p:cNvSpPr/>
          <p:nvPr/>
        </p:nvSpPr>
        <p:spPr>
          <a:xfrm>
            <a:off x="1547640" y="2133720"/>
            <a:ext cx="273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68360" y="1484280"/>
            <a:ext cx="8137440" cy="31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uneri de modific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ări legis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Eliminarea din sfera de impozitare atât a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tit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eiului din produc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ia internă cât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i a produselor care în prezent se regăsesc la Capitolul II „Alte produse accizabile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: cafea, bijuterii, confec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ii din bl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nuri, autoturism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19280" y="476280"/>
            <a:ext cx="701496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Accize (</a:t>
            </a:r>
            <a:r>
              <a:rPr b="1" lang="en-US" sz="2900" spc="-1" strike="noStrike">
                <a:solidFill>
                  <a:srgbClr val="696464"/>
                </a:solidFill>
                <a:latin typeface="Arial"/>
              </a:rPr>
              <a:t>3</a:t>
            </a: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3C0E-D69B-4633-8E86-F3289A34D5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9"/>
          <p:cNvSpPr/>
          <p:nvPr/>
        </p:nvSpPr>
        <p:spPr>
          <a:xfrm>
            <a:off x="611280" y="1052640"/>
            <a:ext cx="784836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0000"/>
                </a:solidFill>
                <a:latin typeface="Calibri"/>
              </a:rPr>
              <a:t>Argumente pentru susţinerea măsuri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c</a:t>
            </a: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ăderea consumului la carburanţi, băuturi alcoolice, etc cu influenţe negative asupra veniturilor bugetare, dar şi asupra indicatorilor macroeconomic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Apariţia fenomenului de alimentare cu combustibil de către transportatori în alte state membre cum ar fi Ungaria şi Slovenia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unde se restituie o parte din accize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sau Bulgaria, care are un nivel redus de tax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Discrepanţele constatate între veniturile bugetare colectate şi costurile de conformare din partea operatorilor economici, respectiv cheltuielile de administrare ale autorităţil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01352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Accize (4)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B91D-4C5F-4EB5-9045-9B20BA0FE1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42644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96464"/>
                </a:solidFill>
                <a:latin typeface="Calibri"/>
              </a:rPr>
              <a:t>Accize</a:t>
            </a:r>
            <a:r>
              <a:rPr b="1" lang="ro-RO" sz="2900" spc="-1" strike="noStrike">
                <a:solidFill>
                  <a:srgbClr val="696464"/>
                </a:solidFill>
                <a:latin typeface="Calibri"/>
              </a:rPr>
              <a:t> (5)</a:t>
            </a:r>
            <a:br>
              <a:rPr sz="29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Rectangle 2"/>
          <p:cNvSpPr/>
          <p:nvPr/>
        </p:nvSpPr>
        <p:spPr>
          <a:xfrm>
            <a:off x="457200" y="98100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</a:rPr>
              <a:t>Efectele măsurilor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457200" y="1490760"/>
          <a:ext cx="8229600" cy="5033880"/>
        </p:xfrm>
        <a:graphic>
          <a:graphicData uri="http://schemas.openxmlformats.org/drawingml/2006/table">
            <a:tbl>
              <a:tblPr/>
              <a:tblGrid>
                <a:gridCol w="2470320"/>
                <a:gridCol w="2808000"/>
                <a:gridCol w="2951280"/>
              </a:tblGrid>
              <a:tr h="490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econom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en medi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64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brut d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7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 in anul, 2016,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r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ămân la dispoziţia populaţiei şi a agenţilor econom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re venituri din TVA, contribuţii sociale, impozit pe salarii etc. în valoare d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d. l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ştere economică suplimentară de circa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re de creştere a numărului locurilor de muncă cu circa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i în anul 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rea inflaţiei cu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uncte procent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cararea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nomenului de alimentare cu combustibil de către transportatori în alte state membre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rea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ziunii fis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6455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4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 anul 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77" name="Rectangle 8"/>
          <p:cNvSpPr/>
          <p:nvPr/>
        </p:nvSpPr>
        <p:spPr>
          <a:xfrm>
            <a:off x="1763640" y="5021280"/>
            <a:ext cx="2571840" cy="107172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ABF-8B1E-4203-B513-18DBD77189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1200" y="352440"/>
            <a:ext cx="742788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Accize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6)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TextBox 10"/>
          <p:cNvSpPr/>
          <p:nvPr/>
        </p:nvSpPr>
        <p:spPr>
          <a:xfrm>
            <a:off x="468360" y="3933720"/>
            <a:ext cx="31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324000" y="141300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</a:rPr>
              <a:t>Efectele măsurilor legislative pe termen medi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>
            <a:off x="745380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  <a:ea typeface="Calibri"/>
              </a:rPr>
              <a:t>mld.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68360" y="2708280"/>
          <a:ext cx="7931160" cy="1158840"/>
        </p:xfrm>
        <a:graphic>
          <a:graphicData uri="http://schemas.openxmlformats.org/drawingml/2006/table">
            <a:tbl>
              <a:tblPr/>
              <a:tblGrid>
                <a:gridCol w="4294080"/>
                <a:gridCol w="1212840"/>
                <a:gridCol w="1211400"/>
                <a:gridCol w="1212840"/>
              </a:tblGrid>
              <a:tr h="579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ul bugetar al propunerilor de modificare a accizel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792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1 % în PIB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EFA-7438-49B0-851C-ABAF2D0741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86920" y="11700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Accize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7)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684360" y="1052640"/>
          <a:ext cx="8072280" cy="2703240"/>
        </p:xfrm>
        <a:graphic>
          <a:graphicData uri="http://schemas.openxmlformats.org/drawingml/2006/table">
            <a:tbl>
              <a:tblPr/>
              <a:tblGrid>
                <a:gridCol w="4405320"/>
                <a:gridCol w="1222200"/>
                <a:gridCol w="1222560"/>
                <a:gridCol w="1222200"/>
              </a:tblGrid>
              <a:tr h="3538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bugetare suplimentare (mld.le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ve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 taxe şi impozite colectate ca urmare a efectului de multipli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venituri bugetare suplimen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3" name="TextBox 10"/>
          <p:cNvSpPr/>
          <p:nvPr/>
        </p:nvSpPr>
        <p:spPr>
          <a:xfrm>
            <a:off x="684360" y="6093000"/>
            <a:ext cx="31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71400" y="3759120"/>
          <a:ext cx="8072640" cy="2263680"/>
        </p:xfrm>
        <a:graphic>
          <a:graphicData uri="http://schemas.openxmlformats.org/drawingml/2006/table">
            <a:tbl>
              <a:tblPr/>
              <a:tblGrid>
                <a:gridCol w="4405320"/>
                <a:gridCol w="1222560"/>
                <a:gridCol w="1222200"/>
                <a:gridCol w="1222560"/>
              </a:tblGrid>
              <a:tr h="426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macroeconom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ul populaţie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uri de muncă (mii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lația la sfârșitul anulu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o-RO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5D1F-5862-4B6A-9389-B14AF544EE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468360" y="2349360"/>
            <a:ext cx="8353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Impozitul pe construct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resterea investitiilor private in Romani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578-5D1C-4482-9498-6521F7E269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6920" y="26784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ul pe construcții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619200" y="1627200"/>
            <a:ext cx="822960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gumente pentru susţinerea măsuri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resterea investitiilor companiilor private existent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 Romani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cu efecte pozitive asupra pieței mun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reșterea competitivității pentru companiile din 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619200" y="1017720"/>
            <a:ext cx="72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Propunere de modificare legislativ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liminare a impozitului pe construcții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începând cu 1 ianuarie 20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619200" y="3141720"/>
          <a:ext cx="8229600" cy="4056120"/>
        </p:xfrm>
        <a:graphic>
          <a:graphicData uri="http://schemas.openxmlformats.org/drawingml/2006/table">
            <a:tbl>
              <a:tblPr/>
              <a:tblGrid>
                <a:gridCol w="3409920"/>
                <a:gridCol w="2376360"/>
                <a:gridCol w="24433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econom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en med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brut de 1,6 mld. lei, sume care rămân la dispoziția </a:t>
                      </a:r>
                      <a:r>
                        <a:rPr b="0" lang="ro-RO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nţilor economi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re venituri din TVA, contribuţii sociale, impozit pe salarii etc. în valoare de 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d. l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stere economica suplimentara de 0,2 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vestitii in sectorul privat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 mari cu 0,5 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re de 20 mii  locuri de munca suplime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23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5 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d.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 anul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CB6-1E77-40DD-93DF-C1A3B23E1E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6"/>
          <p:cNvSpPr/>
          <p:nvPr/>
        </p:nvSpPr>
        <p:spPr>
          <a:xfrm>
            <a:off x="1912680" y="227664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Impozite şi taxe lo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360360" y="3068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Întărirea autonomiei locale şi încurajarea investiţiilor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B087-9016-4FE8-A4A4-D4FA08E7742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87280" y="722160"/>
            <a:ext cx="742824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e şi taxe loc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1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840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gumente pentru introducerea modificărilor legislativ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SimSun"/>
              </a:rPr>
              <a:t>liminarea discriminării generate de sistemul fiscal actual  în funcție de natura juridică a contribuabilului, în care destinația clădirii poate fi rezidențială sau comercial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R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SimSun"/>
              </a:rPr>
              <a:t>educerea sarcinilor administrativ-fiscale pentru contribuabili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SimSun"/>
              </a:rPr>
              <a:t>Încurajarea investițiilor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  <a:ea typeface="SimSun"/>
              </a:rPr>
              <a:t>Întărirea autonomiei locale, acordând autorităților locale posibilitatea să stabilească politica fiscală locală ținând cont de propriile necesități de proiectare bugetară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6D13-7BF6-438A-99E2-854F2FD324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9"/>
          <p:cNvSpPr/>
          <p:nvPr/>
        </p:nvSpPr>
        <p:spPr>
          <a:xfrm>
            <a:off x="1193400" y="2349360"/>
            <a:ext cx="66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xa pe valoarea ad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gat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259280" y="321300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venirea la nivelul mediu din UE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697C-B02D-4BAE-8F34-90D2880548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12560" y="709560"/>
            <a:ext cx="742788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e şi taxe loc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2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840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Evoluţia veniturilor bugetelor loca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  <a:ea typeface="SimSun"/>
              </a:rPr>
              <a:t>În perioada 2010-2014 veniturile bugetului centralizat al unităţilor administrativ teritoriale au avut o evoluţie pozitivă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526" name="Object 8"/>
          <p:cNvGraphicFramePr/>
          <p:nvPr/>
        </p:nvGraphicFramePr>
        <p:xfrm>
          <a:off x="1332000" y="1557360"/>
          <a:ext cx="6418080" cy="3870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2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1557360"/>
                    <a:ext cx="641808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B37-F85F-4985-B5B4-AE117C9029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06280" y="632880"/>
            <a:ext cx="7427880" cy="403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e şi taxe loc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3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00000" y="1125360"/>
            <a:ext cx="7840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Impozitul pe clădiri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Cota impozitului pe clădiri rezidențiale va fi cuprinsă între 0,08 % 0.2%, față de cota actuală  0,1 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Cota impozitului pe clădiri nerezidențiale, va fi cuprinsă între 0,2%-1,3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Impozitului pe tere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- Pentru terenurile situate în  intravilan au fost introduse limite minime și maxime, pe ranguri de localități și zone.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E39C-7FF4-4ECC-B07D-5877E76E44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87280" y="665280"/>
            <a:ext cx="7428240" cy="403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Impozite şi taxe locale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 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(</a:t>
            </a:r>
            <a:r>
              <a:rPr b="1" lang="en-US" sz="2300" spc="-1" strike="noStrike">
                <a:solidFill>
                  <a:srgbClr val="696464"/>
                </a:solidFill>
                <a:latin typeface="Calibri"/>
              </a:rPr>
              <a:t>4</a:t>
            </a: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)</a:t>
            </a:r>
            <a:br>
              <a:rPr sz="2300"/>
            </a:b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7840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716040" algn="just">
              <a:lnSpc>
                <a:spcPct val="9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Perpetua"/>
                <a:ea typeface="SimSu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SimSun"/>
              </a:rPr>
              <a:t>Impozitul pe mijloacele de transport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- S-a introdus posibilitatea de scutire sau reducere a impozitului pe mijloacele de transport agricole folosite exclusiv în domeniul agrico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716040" algn="just">
              <a:lnSpc>
                <a:spcPct val="9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SimSun"/>
              </a:rPr>
              <a:t>Competențe ale consiliilor locale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Pot majora, pentru clădirile și terenurile neîngrijite situate în intravilan,  impozitul pe clădiri și impozitul pe teren cu până la 500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Pentru terenul agricol din extravilan nelucrat timp de doi ani consecutiv, se poate majora impozitul pe teren cu până la 500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C57-2788-4144-994A-FCC2183C5B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79280" y="2060640"/>
            <a:ext cx="8964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fectul cumulat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 propunerilor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4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27080" y="142920"/>
            <a:ext cx="9205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B79A-90F1-41DC-BD5E-7FA8813B8C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"/>
          <p:cNvGraphicFramePr/>
          <p:nvPr/>
        </p:nvGraphicFramePr>
        <p:xfrm>
          <a:off x="723960" y="765000"/>
          <a:ext cx="8031240" cy="2583000"/>
        </p:xfrm>
        <a:graphic>
          <a:graphicData uri="http://schemas.openxmlformats.org/drawingml/2006/table">
            <a:tbl>
              <a:tblPr/>
              <a:tblGrid>
                <a:gridCol w="3002040"/>
                <a:gridCol w="1326960"/>
                <a:gridCol w="1327320"/>
                <a:gridCol w="1187280"/>
                <a:gridCol w="1187640"/>
              </a:tblGrid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bugetare suplimenta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ld. le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uperate</a:t>
                      </a: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e categorii de măsu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iden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a unic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construct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 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9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27080" y="142920"/>
            <a:ext cx="920520" cy="911160"/>
          </a:xfrm>
          <a:prstGeom prst="rect">
            <a:avLst/>
          </a:prstGeom>
          <a:ln w="0">
            <a:noFill/>
          </a:ln>
        </p:spPr>
      </p:pic>
      <p:sp>
        <p:nvSpPr>
          <p:cNvPr id="550" name="Subtitle 2"/>
          <p:cNvSpPr/>
          <p:nvPr/>
        </p:nvSpPr>
        <p:spPr>
          <a:xfrm>
            <a:off x="942840" y="477720"/>
            <a:ext cx="701064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723960" y="3429000"/>
          <a:ext cx="8031240" cy="952560"/>
        </p:xfrm>
        <a:graphic>
          <a:graphicData uri="http://schemas.openxmlformats.org/drawingml/2006/table">
            <a:tbl>
              <a:tblPr/>
              <a:tblGrid>
                <a:gridCol w="3002040"/>
                <a:gridCol w="1326960"/>
                <a:gridCol w="1327320"/>
                <a:gridCol w="1187280"/>
                <a:gridCol w="118764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 bugetare nete (mld.le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ru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recuper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n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TextBox 10"/>
          <p:cNvSpPr/>
          <p:nvPr/>
        </p:nvSpPr>
        <p:spPr>
          <a:xfrm>
            <a:off x="684360" y="6073920"/>
            <a:ext cx="4608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*</a:t>
            </a:r>
            <a:r>
              <a:rPr b="0" i="1" lang="ro-RO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ro-RO" sz="1100" spc="-1" strike="noStrike">
                <a:solidFill>
                  <a:srgbClr val="000000"/>
                </a:solidFill>
                <a:latin typeface="Calibri"/>
                <a:ea typeface="Arial"/>
              </a:rPr>
              <a:t>Impact faţă de anul bugetar preced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**</a:t>
            </a:r>
            <a:r>
              <a:rPr b="0" i="1" lang="ro-RO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Modificări cota unic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*** Impactul macroeconomic se refera doar la masurile fiscale introd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730080" y="4537080"/>
          <a:ext cx="8025120" cy="1236600"/>
        </p:xfrm>
        <a:graphic>
          <a:graphicData uri="http://schemas.openxmlformats.org/drawingml/2006/table">
            <a:tbl>
              <a:tblPr/>
              <a:tblGrid>
                <a:gridCol w="3000600"/>
                <a:gridCol w="1325520"/>
                <a:gridCol w="1326960"/>
                <a:gridCol w="1186200"/>
                <a:gridCol w="118584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ul macroeconom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ul populaţ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uri de muncă – mii persoa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0DA-F7FB-4D67-ACA4-081B5539EEF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0" descr="Flag of Romania.svg"/>
          <p:cNvPicPr/>
          <p:nvPr/>
        </p:nvPicPr>
        <p:blipFill>
          <a:blip r:embed="rId1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7" descr="http://europa.eu/abc/symbols/emblem/images/europ_flag/jaune.jpg"/>
          <p:cNvPicPr/>
          <p:nvPr/>
        </p:nvPicPr>
        <p:blipFill>
          <a:blip r:embed="rId2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C:\Documents and Settings\Raluca\Desktop\Note pt prezentare BNR\sigla_mfp.png"/>
          <p:cNvPicPr/>
          <p:nvPr/>
        </p:nvPicPr>
        <p:blipFill>
          <a:blip r:embed="rId3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858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1258560" y="980640"/>
            <a:ext cx="7427880" cy="708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Planul de relaxare fiscala pentru Romania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2016-2020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24000" y="1628640"/>
          <a:ext cx="8569080" cy="4400640"/>
        </p:xfrm>
        <a:graphic>
          <a:graphicData uri="http://schemas.openxmlformats.org/drawingml/2006/table">
            <a:tbl>
              <a:tblPr/>
              <a:tblGrid>
                <a:gridCol w="3527280"/>
                <a:gridCol w="2521080"/>
                <a:gridCol w="252072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axa \ 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1ff"/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a unica de impozit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ul p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pe constructii spec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tii de asigurari sociale de s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jator – 15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jat – 1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jator – 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ajat – 7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veniturile microintreprinderi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- 3%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e si taxe lo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8 – 0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14E-EA7C-41F3-9E4B-10CC0C3A6C1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33000" y="358920"/>
            <a:ext cx="7426440" cy="660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Taxa pe valoarea adăugată (1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71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rea cotei standard pentru toate bunuril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serviciile de la 24%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prezent la 20%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 ianuarie 2016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rea cotei de TVA pentru carne,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peșt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egume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ș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ucte de la 24%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prezent la 9%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 ianuarie 2016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erea tax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i invers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entru livrarea de clădiri, părţi de clădire şi terenuri de orice fel, pentru a căror livrare se aplică regimul de taxare,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începând cu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 ianuarie 2016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10000"/>
              </a:lnSpc>
              <a:spcBef>
                <a:spcPts val="575"/>
              </a:spcBef>
              <a:buClr>
                <a:srgbClr val="9bcb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Reducerea cotei TVA de la 20% la 18%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începând cu 1 ianuarie 201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 algn="just">
              <a:lnSpc>
                <a:spcPct val="11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457200" y="119700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puneri de m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dificări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3"/>
          <p:cNvGraphicFramePr/>
          <p:nvPr/>
        </p:nvGraphicFramePr>
        <p:xfrm>
          <a:off x="228600" y="1046160"/>
          <a:ext cx="4410000" cy="23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4410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71BE-ADC9-4CEE-A0B5-4844AB2002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Flag of Romania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7" descr="http://europa.eu/abc/symbols/emblem/images/europ_flag/jaune.jpg"/>
          <p:cNvPicPr/>
          <p:nvPr/>
        </p:nvPicPr>
        <p:blipFill>
          <a:blip r:embed="rId5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Raluca\Desktop\Note pt prezentare BNR\sigla_mfp.png"/>
          <p:cNvPicPr/>
          <p:nvPr/>
        </p:nvPicPr>
        <p:blipFill>
          <a:blip r:embed="rId6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8400" y="588600"/>
            <a:ext cx="742644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Taxa pe valoarea adăugată (2)</a:t>
            </a:r>
            <a:br>
              <a:rPr sz="2300"/>
            </a:br>
            <a:r>
              <a:rPr b="1" lang="ro-RO" sz="1400" spc="-1" strike="noStrike">
                <a:solidFill>
                  <a:srgbClr val="696464"/>
                </a:solidFill>
                <a:latin typeface="Calibri"/>
              </a:rPr>
              <a:t>-</a:t>
            </a:r>
            <a:r>
              <a:rPr b="1" i="1" lang="ro-RO" sz="1400" spc="-1" strike="noStrike">
                <a:solidFill>
                  <a:srgbClr val="696464"/>
                </a:solidFill>
                <a:latin typeface="Calibri"/>
              </a:rPr>
              <a:t> revenirea la nivelul mediu din UE -</a:t>
            </a:r>
            <a:br>
              <a:rPr sz="14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600120" y="1054080"/>
            <a:ext cx="372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Calibri"/>
              </a:rPr>
              <a:t>Cota standard TVA din RO printre cele mai ridicate din UE, cu mult peste media 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Chart 9" descr=""/>
          <p:cNvPicPr/>
          <p:nvPr/>
        </p:nvPicPr>
        <p:blipFill>
          <a:blip r:embed="rId7"/>
          <a:stretch/>
        </p:blipFill>
        <p:spPr>
          <a:xfrm>
            <a:off x="1187280" y="3933720"/>
            <a:ext cx="7013880" cy="26449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4610160" y="957240"/>
            <a:ext cx="432576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om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â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ia este a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–a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r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din UE, 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ceea ce prive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e cota standard de TVA (24%), dup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Ungaria,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nemarca, Croa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ţ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a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ş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edi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cas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ile d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TVA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se situeaz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ub cre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erea nominal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a VAB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ta efectiv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a TVA est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mult sub cota medie legal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onsumul privat a crescut,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medie, cu 1% anual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2011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 2012, de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ş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i veniturile salariale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real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s-au majorat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în medie cu 2%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499"/>
              </a:spcAft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Frauda fiscal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din TVA a fost mai mare dup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majorarea TVA, respectiv de la 3,4%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din PI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2010 la 6,3%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din PI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2012, dup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care s-a redus la 5,7%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 din PI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Calibri"/>
                <a:ea typeface="Arial"/>
              </a:rPr>
              <a:t>î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n 201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932720" y="6634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gumente pentru reducerea 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4E3-B283-4CE0-86D4-0C444BF6F3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25000" y="34092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Taxa pe valoarea adăugată (3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57200" y="98100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</a:rPr>
              <a:t>Efectele măsurilor legis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57200" y="1490760"/>
          <a:ext cx="8229600" cy="5033880"/>
        </p:xfrm>
        <a:graphic>
          <a:graphicData uri="http://schemas.openxmlformats.org/drawingml/2006/table">
            <a:tbl>
              <a:tblPr/>
              <a:tblGrid>
                <a:gridCol w="2470320"/>
                <a:gridCol w="2808000"/>
                <a:gridCol w="2951280"/>
              </a:tblGrid>
              <a:tr h="3351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u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ic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bu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ru econo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en med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brut de 11,6 mld. Lei in anul 2016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r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ămân la dispoziția populaţiei şi a agenţilor econom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re venituri din TVA, contribuţii sociale, impozit pe salarii etc. în valoare de 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ştere economică suplimentară de circa 1 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imare de creştere a numărului locurilor de muncă cu circa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ii în anul 2016 şi cu circa 75 mii în următorii a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ulare a mediului de afaceri datorată îmbunătățirii fluxurilor de cash-f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rea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ziunii fiscale</a:t>
                      </a: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apreciata la incasari suplimentare anuale de 0,5 mld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789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bugetar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</a:t>
                      </a:r>
                      <a:r>
                        <a:rPr b="1" i="1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i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ld. l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o-R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în anul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6" name="Rectangle 8"/>
          <p:cNvSpPr/>
          <p:nvPr/>
        </p:nvSpPr>
        <p:spPr>
          <a:xfrm>
            <a:off x="1785960" y="5000760"/>
            <a:ext cx="2571840" cy="1071360"/>
          </a:xfrm>
          <a:prstGeom prst="rect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5A3A-B87E-4455-A30F-A8ED7B480F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33000" y="285480"/>
            <a:ext cx="7427880" cy="755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Taxa pe valoarea adăugată (4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779400" y="4797360"/>
            <a:ext cx="31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779400" y="1203480"/>
            <a:ext cx="822960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696464"/>
                </a:solidFill>
                <a:latin typeface="Calibri"/>
              </a:rPr>
              <a:t>Efectele măsurilor legislative pe termen medi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7435800" y="16876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Calibri"/>
              </a:rPr>
              <a:t>mld.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54040" y="1965240"/>
          <a:ext cx="7931160" cy="2752920"/>
        </p:xfrm>
        <a:graphic>
          <a:graphicData uri="http://schemas.openxmlformats.org/drawingml/2006/table">
            <a:tbl>
              <a:tblPr/>
              <a:tblGrid>
                <a:gridCol w="4294080"/>
                <a:gridCol w="1212840"/>
                <a:gridCol w="1211400"/>
                <a:gridCol w="1212840"/>
              </a:tblGrid>
              <a:tr h="579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actul bugetar al propunerilor de modificare a TV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9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rea cotei TVA de la 24% în prezent la 20% începând cu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rea cotei TVA pentru carne, pește, legume și fructe de la 24% în prezent la 9% începând cu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ucerea cotei TVA de la 20% la 18% începând cu anul 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,5 % în P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2 % în P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0,7 % în PI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736560" y="671400"/>
          <a:ext cx="8072640" cy="1895760"/>
        </p:xfrm>
        <a:graphic>
          <a:graphicData uri="http://schemas.openxmlformats.org/drawingml/2006/table">
            <a:tbl>
              <a:tblPr/>
              <a:tblGrid>
                <a:gridCol w="4405320"/>
                <a:gridCol w="1222560"/>
                <a:gridCol w="1222200"/>
                <a:gridCol w="1222560"/>
              </a:tblGrid>
              <a:tr h="23832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ituri bugetare suplimentare (mld.le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zit pe ven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 taxe şi impozite colectate ca urmare a efectului de multipli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venituri bugetare supliment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0070c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0ED8-C11E-4887-8607-1BEE06995A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0" descr="Flag of Romani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474040" y="255600"/>
            <a:ext cx="560520" cy="384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7" descr="http://europa.eu/abc/symbols/emblem/images/europ_flag/jaune.jpg"/>
          <p:cNvPicPr/>
          <p:nvPr/>
        </p:nvPicPr>
        <p:blipFill>
          <a:blip r:embed="rId3"/>
          <a:stretch/>
        </p:blipFill>
        <p:spPr>
          <a:xfrm>
            <a:off x="8193240" y="122400"/>
            <a:ext cx="585720" cy="40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C:\Documents and Settings\Raluca\Desktop\Note pt prezentare BNR\sigla_mfp.png"/>
          <p:cNvPicPr/>
          <p:nvPr/>
        </p:nvPicPr>
        <p:blipFill>
          <a:blip r:embed="rId4"/>
          <a:stretch/>
        </p:blipFill>
        <p:spPr>
          <a:xfrm>
            <a:off x="139680" y="142920"/>
            <a:ext cx="920880" cy="9111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58400" y="313920"/>
            <a:ext cx="7426440" cy="660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Taxa pe valoarea adăugată (5)</a:t>
            </a:r>
            <a:br>
              <a:rPr sz="2300"/>
            </a:br>
            <a:r>
              <a:rPr b="1" lang="ro-RO" sz="23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684360" y="4005360"/>
            <a:ext cx="317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  <a:ea typeface="Arial"/>
              </a:rPr>
              <a:t>Impact faţă de anul bugetar preced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736560" y="2637000"/>
          <a:ext cx="8072640" cy="1190520"/>
        </p:xfrm>
        <a:graphic>
          <a:graphicData uri="http://schemas.openxmlformats.org/drawingml/2006/table">
            <a:tbl>
              <a:tblPr/>
              <a:tblGrid>
                <a:gridCol w="4405320"/>
                <a:gridCol w="1222560"/>
                <a:gridCol w="1222200"/>
                <a:gridCol w="1222560"/>
              </a:tblGrid>
              <a:tr h="237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macroeconom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1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1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7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ul populaţ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3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2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5 p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uri de muncă (mi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4365720"/>
            <a:ext cx="784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fectele adiţionale pe termen mediu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Îmbunătăţirea conformării voluntare şi apropierea ratei efective a TVA de rata medie (17-18%);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Îmbunătăţirea ocupării atât prin locuri noi create cât şi suplimentar prin oficializarea unor locuri de muncă din economia ascunsă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Stimularea extinderii relaţiilor de piaţă în agricultură, reducerea autoconsumului şi creşteri implicite a veniturilor din TVA;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afd5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Indiferent de riscuri inflaţia se va menţine la niveluri reduse, putând absorbi eventuale riscuri asociate şocurilor de natura ofertei.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36:52Z</dcterms:created>
  <dc:creator>41460571</dc:creator>
  <dc:description/>
  <dc:language>en-US</dc:language>
  <cp:lastModifiedBy>42869823</cp:lastModifiedBy>
  <cp:lastPrinted>2015-02-17T10:18:55Z</cp:lastPrinted>
  <dcterms:modified xsi:type="dcterms:W3CDTF">2015-02-17T21:58:35Z</dcterms:modified>
  <cp:revision>490</cp:revision>
  <dc:subject/>
  <dc:title>STOCK-TAKING ON THE TRANSPOSITION OF THE FISCAL COMPACT</dc:title>
</cp:coreProperties>
</file>